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68C6-0D1D-4E6F-B047-D1E35B6A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DB8E-E128-4B6C-B782-1D976182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745-C278-401C-BBBC-B02AED24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9810-742F-4BFF-BA32-E8FDADE7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9057-C0AD-4A3C-945B-5FACE053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0E12-F287-45D2-B1C4-D54A861E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816-A78E-4D67-9DD2-07AACAE6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94CB-D927-4D56-ABBF-7B60F6CC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C472-FEEB-4417-81E0-3DC782CC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4E9-A0D4-4CD6-B71E-BE8A8CC6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D0C-F331-4217-8351-993B551D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80F-9F38-4E79-81D1-CE8B1C56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7934-03A1-4C47-9B69-53866E2F78D7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condo.ro/amenajari/arhitectura/306/slideshow/Galerie-foto-Case-inedite-construite-din-pamant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rdhaus.ch/main.php?fla=y&amp;lang=en&amp;cont=start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476280"/>
            <a:ext cx="352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3300"/>
                </a:solidFill>
                <a:latin typeface="Arial"/>
              </a:rPr>
              <a:t>Case de p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ff3300"/>
                </a:solidFill>
                <a:latin typeface="Arial"/>
              </a:rPr>
              <a:t>m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522936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Va invitam sa parcurgeti o serie de imagini inedite ce prezinta case construite din pamant, semnate de arhitectul elvetian </a:t>
            </a:r>
            <a:r>
              <a:rPr b="1" lang="ro-RO" sz="2400" spc="-1" strike="noStrike">
                <a:solidFill>
                  <a:srgbClr val="ff3300"/>
                </a:solidFill>
                <a:latin typeface="Arial"/>
              </a:rPr>
              <a:t>Peter Vetsch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o-RO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0920" y="189000"/>
            <a:ext cx="446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onceptul caselor de pamant utilizeaza pamantul ca un invelis izolator ce protejeaza constructia de ploi, temperaturi scazute si v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10260000" cy="68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29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9640" y="5805360"/>
            <a:ext cx="56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rhitectura acoperita de pamant beneficiaza de temperaturi echilibrate. Astfel de constructii sunt mai reci vara si mai calduroase iarna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919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260280"/>
            <a:ext cx="622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ormele curbe ale caselor de pamant reprezinta o sinteza ideala dintre forma si functiune. Aceasta forma arhaica constituie un omagiu adus mediului inconjurator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333360"/>
            <a:ext cx="46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tructura caselor de pamant asigura forme organice, elaborarea acestora necesitand creativitate si un puternic simt al spatiulu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5546520" cy="5861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63640" y="549360"/>
            <a:ext cx="5400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asele de pamant ne trimit cu gandul la sculpturi locuibile, incorporand valente artistice si calitati sculptu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34520" cy="71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468000" cy="73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26028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3300"/>
                </a:solidFill>
                <a:latin typeface="Arial"/>
              </a:rPr>
              <a:t>Aceste constructii se bazeaza pe conceptele arhitecturii ecologice, prezinta forme organice si sunt inzestrate cu valente artis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8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0920" y="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sele moderne din pamant incorporeaza finisaje de ultima ora, precum bucatarii contemporane sau bai complet util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325080" cy="7085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404640"/>
            <a:ext cx="482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vand in vedere ca fiecare constructie este proiectata separat in functie de necesitatile proprietarului, fiecare casa este un obiect puternic individualiz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92180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93080" cy="70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81080" y="-120600"/>
            <a:ext cx="9506160" cy="709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22280" y="0"/>
            <a:ext cx="6499440" cy="70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98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9937800" cy="696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5805360"/>
            <a:ext cx="58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 casa din pamant nu trebuie sa fie construita neaparat sub pamant, putand fi amplasata si deasupra sitului.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090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537372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Schimbarile ce au loc in cadrul comunitatii internationale necesita solutii flexibile si multi-functionale in ceea ce priveste mediul construit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56720" cy="6926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1280" y="59500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ondo.ro/amenajari/arhitectura/306/slideshow/Galerie-foto-Case-inedite-construite-din-paman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http://www.erdhaus.ch/main.php?fla=y&amp;lang=en&amp;cont=earth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6360" y="5300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t de Luana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71640" y="494172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Din pacate, majoritatea cladirilor contemporane sunt rezultatul unei abordari conventionale a design-ului ce apartine trecutulu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3300"/>
                </a:solidFill>
                <a:latin typeface="Arial"/>
              </a:rPr>
              <a:t>Arhitectura nu ar trebui sa domine natura ci sa comunice cu ea, iar din acest motiv arhitectura ecologica isi propune sa se integreze cat mai armonios in mediul inconju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5280" y="515772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asele de pamant create de </a:t>
            </a: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eter Vetsch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 se bazeaza pe conceptele arhitecturii ecologice.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492360" y="5445000"/>
            <a:ext cx="5327640" cy="131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3300"/>
                </a:solidFill>
                <a:latin typeface="Arial"/>
              </a:rPr>
              <a:t>Acestea se remarca prin stransa relatie cu natura si prin faptul ca ofera experiente diferite fata de constructiile obisnuite cu patru pereti si unghiuri drep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635280" y="5546880"/>
            <a:ext cx="55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asele de pamant folosesc imprejurimile in avantajul lor; mediul inconjurator nu este adaptat cladirii, casa fiind modelata pentru a conserva mediul na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756720" cy="7040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87280" y="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re deosebire de constructiile rezidentiale traditionale, scopul unei case din pamant nu este acela de a trai 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sub,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 sau 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deasup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 pamantului, ci 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impreun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 cu 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0:16:44Z</dcterms:created>
  <dc:creator>Luana Dumitru</dc:creator>
  <dc:description/>
  <dc:language>en-US</dc:language>
  <cp:lastModifiedBy>Maica Maria</cp:lastModifiedBy>
  <dcterms:modified xsi:type="dcterms:W3CDTF">2010-04-12T21:49:52Z</dcterms:modified>
  <cp:revision>4</cp:revision>
  <dc:subject/>
  <dc:title>Slide 1</dc:title>
</cp:coreProperties>
</file>